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A34-7069-4E28-BA67-35F67974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C08-C539-41FD-9724-71F36D47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7CE-0587-4C98-BA64-2F1CB429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CA1-454E-462F-B7F4-C3A4238F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1C82-1A50-462F-BF74-92C433DA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3183-B015-4EAE-892F-1355E2A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3F9-E8C3-4CBD-B279-C4DBF72C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94DF-4188-4577-A063-DFF1419E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1C39-34F7-46EB-8309-21F8419C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CEA7-1082-424E-9E76-6D9FFE85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A195-4AD5-4030-833C-290AC37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F5B-789C-4DB1-A767-B2F594AA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2B2B-AE27-4DA3-BFA3-FCD8233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CB39-D4E5-4FC4-AD82-08C8F9FB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AAF-120F-4C53-B7D5-7B1AAE5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D0D-BD89-46C2-BEB8-F95C8E6D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4B7C-490D-43AC-AF64-AE393578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3FD-3195-4FE8-9162-0878783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B39-4888-413A-9903-E5CF522B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F42-AA41-4DA1-9871-CA4E2A0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C51-DC45-4A28-B58C-F7A5C590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32A-7AE8-4C53-BC63-0EC5EB5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332-7C90-4F2F-980B-4731C37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6D7-0679-44BF-B4FF-26E2DA6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8DBB-C455-4519-8F12-6811B5D2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4"/>
          <a:srcRect l="20416" t="0" r="0" b="0"/>
          <a:stretch/>
        </p:blipFill>
        <p:spPr>
          <a:xfrm>
            <a:off x="0" y="0"/>
            <a:ext cx="29718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AFBF-F146-4FE3-91C6-BC0C027C1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965160"/>
            <a:ext cx="324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280" y="1809720"/>
            <a:ext cx="58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270400"/>
            <a:ext cx="324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s ________ futbol.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nosotros _________ beisbol.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_________ ustedes jugar? (prefer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Tú _________ jugar con nosotros? (po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yo ________, nuestro equipo gana. Nosotros no __________. (jugar,pe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A qué hora _______ el partido? (empez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895120" y="0"/>
            <a:ext cx="5715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mbre: ___________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rea #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20:31:49Z</dcterms:created>
  <dc:creator>Helen Zumaeta</dc:creator>
  <dc:description/>
  <dc:language>en-US</dc:language>
  <cp:lastModifiedBy>Helen Zumaeta</cp:lastModifiedBy>
  <dcterms:modified xsi:type="dcterms:W3CDTF">2011-10-07T20:32:22Z</dcterms:modified>
  <cp:revision>1</cp:revision>
  <dc:subject/>
  <dc:title>Nombre: ___________ Tarea # 7</dc:title>
</cp:coreProperties>
</file>